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12147"/>
        <c:axId val="62022415"/>
      </c:barChart>
      <c:catAx>
        <c:axId val="67312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22415"/>
        <c:crosses val="autoZero"/>
        <c:auto val="1"/>
        <c:lblAlgn val="ctr"/>
        <c:lblOffset val="100"/>
        <c:noMultiLvlLbl val="0"/>
      </c:catAx>
      <c:valAx>
        <c:axId val="62022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12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8B5-F49C-4E40-9FD7-472B4150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2A7-2F84-4A39-8E78-920E750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AB3-378A-4317-9D83-E3A65DF9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2F6-D092-465A-BD90-69C30A31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5EB-DB27-42A7-849D-A5CB8C47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915-DC4D-4155-92CE-ABAF2185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48E-B118-4DE9-81D5-D58D43E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F53-7E28-4702-976F-066E9D45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3F3-7367-4176-A292-E6D9044B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A90-6D51-47EE-BD9D-502E2AF7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915-E724-48CB-847B-1749C96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285-C8CE-4E70-8AC9-7CB11CE9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78DF3-563D-4601-845A-B5A893F630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