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54776"/>
        <c:axId val="24776001"/>
      </c:barChart>
      <c:catAx>
        <c:axId val="78554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76001"/>
        <c:crosses val="autoZero"/>
        <c:auto val="1"/>
        <c:lblAlgn val="ctr"/>
        <c:lblOffset val="100"/>
        <c:noMultiLvlLbl val="0"/>
      </c:catAx>
      <c:valAx>
        <c:axId val="24776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54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AF4-EF65-4012-ACDD-F64A3A91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DE1-FDF6-4FFE-A40B-BACD1D47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1FC-45D3-4AD8-B4DC-44A940BE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22C-D7FE-4EA0-9CFE-6D1458F1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5B3-4B87-4E54-BC42-4057CAAA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EEF-9FD6-481A-A8A8-CB90B9D0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EBA-DF60-4BA4-9CC5-5EB52EE2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821-3018-4A6B-83AD-F32A624D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646-FA4C-488E-B5FC-1DD1C861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BEC-FFAC-4EC1-9F16-DFE0E4B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487-3E19-41E7-B9EE-DB083657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3A4-0165-4806-A182-B7E53FE3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349F3-EB14-40DE-901F-3944C5FAD1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